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902-5BE5-42FA-A08B-881086FF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6E0-52EE-4DEB-BA0A-0B4AD41E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081-303B-42F3-A02A-6C65CAFE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B73-463C-45F5-B6A6-66800680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366-ACD9-4DEB-A9FE-DB086480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B57-AE3A-4911-8B3A-E923F0BE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5F04-FEA6-43A5-A080-28E1C789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B9C-2A79-4AC7-B90C-96013E34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2FD-C26D-4FDC-930B-BF59744B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5C2-E45C-4FE1-853B-515B5FB2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4FB-FC93-4C32-847D-9E54D480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24E-ECA7-46E6-8CD2-53256E8C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A197-86C3-493F-A485-9E82655E6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ayride013.jpg"/>
          <p:cNvPicPr/>
          <p:nvPr/>
        </p:nvPicPr>
        <p:blipFill>
          <a:blip r:embed="rId1"/>
          <a:srcRect l="9742" t="3333" r="8302" b="41113"/>
          <a:stretch/>
        </p:blipFill>
        <p:spPr>
          <a:xfrm>
            <a:off x="0" y="-152280"/>
            <a:ext cx="434340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TextBox 4"/>
          <p:cNvSpPr/>
          <p:nvPr/>
        </p:nvSpPr>
        <p:spPr>
          <a:xfrm>
            <a:off x="152280" y="990720"/>
            <a:ext cx="762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l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990720" y="987480"/>
            <a:ext cx="914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au Schla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133720" y="990720"/>
            <a:ext cx="1066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i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3048120" y="762120"/>
            <a:ext cx="7617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rr Schla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380880" y="2130480"/>
            <a:ext cx="1371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b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1981080" y="213048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o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3200400" y="205740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l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762120" y="3352680"/>
            <a:ext cx="1371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ll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1905120" y="3352680"/>
            <a:ext cx="1066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x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3352680" y="335268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l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tangle 15" descr=""/>
          <p:cNvPicPr/>
          <p:nvPr/>
        </p:nvPicPr>
        <p:blipFill>
          <a:blip r:embed="rId2"/>
          <a:stretch/>
        </p:blipFill>
        <p:spPr>
          <a:xfrm>
            <a:off x="4645080" y="-365040"/>
            <a:ext cx="4200480" cy="97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6"/>
          <p:cNvSpPr/>
          <p:nvPr/>
        </p:nvSpPr>
        <p:spPr>
          <a:xfrm>
            <a:off x="4495680" y="422280"/>
            <a:ext cx="441972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sing the pictures to the left and the clues below, write the answer to the question  “ Wer bin ich?” and “Wer ist…?”  in complete German sentences.  Follow the examp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000000"/>
              </a:buClr>
              <a:buFont typeface="Bauhaus 93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bin ich?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h bin ein Tiger. 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Du bist Herr Schlau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000000"/>
              </a:buClr>
              <a:buFont typeface="Bauhaus 93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ist ein Tiger?  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Herr Schlau ist ein Tiger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000000"/>
              </a:buClr>
              <a:buFont typeface="Bauhaus 93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bin ich?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h bin ein Frosch.  _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Du bist_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000000"/>
              </a:buClr>
              <a:buFont typeface="Bauhaus 93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ist ein Frosch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000000"/>
              </a:buClr>
              <a:buFont typeface="Bauhaus 93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ist ein Frosch.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000000"/>
              </a:buClr>
              <a:buFont typeface="Bauhaus 93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bin ich?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h bin eine Giraffe.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000000"/>
              </a:buClr>
              <a:buFont typeface="Bauhaus 93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ist eine Giraffe?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0" y="3809880"/>
            <a:ext cx="937260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bin ich?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h bin ein Hund.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ist ein Hund?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bin ich?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h bin ein Kater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ist ein Kater?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bin ich?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h bin eine Ente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ist eine Ente?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 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bin ich?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h bin eine Eule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ist eine Eule?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bin ich?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h bin eine Hexe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ist eine Hexe?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bin ich?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h bin ein weiblicher Frosch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ist ein weiblicher Frosch?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1:51:37Z</dcterms:created>
  <dc:creator>Hart</dc:creator>
  <dc:description/>
  <dc:language>en-US</dc:language>
  <cp:lastModifiedBy>Hart</cp:lastModifiedBy>
  <dcterms:modified xsi:type="dcterms:W3CDTF">2010-11-29T22:21:04Z</dcterms:modified>
  <cp:revision>1</cp:revision>
  <dc:subject/>
  <dc:title>Slide 1</dc:title>
</cp:coreProperties>
</file>